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F14-0518-4064-B8EE-EB7C71D8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F3B-BBB8-43CE-97F9-ECF18C0C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B7F-C412-4697-83BE-99B880D9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CF9-4F5D-4323-91B8-29B9B05F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0D0-40C8-4F76-A6F4-5AC57CE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F82-8C5A-4E4E-9C90-BA925199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580-291B-4E54-BEEE-93EFE95E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608-CC52-4269-8D95-57409893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BE7-66E5-478B-9D5C-0D425ED4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F8E-BCD3-4862-893A-A8D4D96E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7E0-66DE-4A37-8338-0853FFD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6CE-92E5-4585-B376-10FB71AB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DFEC-A801-4819-B60D-56854C7AF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     Clase 702</a:t>
            </a:r>
            <a:br>
              <a:rPr sz="3800"/>
            </a:b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La fecha es el 2 de febrero del 20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4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el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Quiz 1: Capitulo 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l lu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parts of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Line 10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V="1">
            <a:off x="5791320" y="49525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97180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685800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26668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705720" y="6248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6400800" y="3886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6781680" y="5622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ocabular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según el vocabulario ind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lanza el balón con __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fo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mbién lanza el balón con 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es un jugador muy bueno porque tiene ____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leg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fue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l futbo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¿Cuántos jugadores hay en el equip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o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¿Cuántos tiempos hay en un partid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¿Quién guarda la portería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l port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Cuándo mete un gol el jugador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el balón entra en la porter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Qué marca un jugador cuando el balón entra en la portería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un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En el estadio, ¿Qué indica el tabler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l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Cuándo queda empatado el tant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los dos equipos tienen el mismo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600" y="14475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III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for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ate the pieces of the soccer uniform &amp; colors in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clipart-box.com/zoom/soccer-player120627.jpg"/>
          <p:cNvPicPr/>
          <p:nvPr/>
        </p:nvPicPr>
        <p:blipFill>
          <a:blip r:embed="rId1"/>
          <a:stretch/>
        </p:blipFill>
        <p:spPr>
          <a:xfrm>
            <a:off x="1143000" y="3165480"/>
            <a:ext cx="2300400" cy="2298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clipart-box.com/zoom/soccer-player120702b.jpg"/>
          <p:cNvPicPr/>
          <p:nvPr/>
        </p:nvPicPr>
        <p:blipFill>
          <a:blip r:embed="rId2"/>
          <a:stretch/>
        </p:blipFill>
        <p:spPr>
          <a:xfrm>
            <a:off x="5638680" y="2992320"/>
            <a:ext cx="2644920" cy="264492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4"/>
          <p:cNvCxnSpPr/>
          <p:nvPr/>
        </p:nvCxnSpPr>
        <p:spPr>
          <a:xfrm flipH="1" flipV="1">
            <a:off x="1218600" y="3656880"/>
            <a:ext cx="61020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7"/>
          <p:cNvCxnSpPr/>
          <p:nvPr/>
        </p:nvCxnSpPr>
        <p:spPr>
          <a:xfrm flipH="1">
            <a:off x="1447560" y="4876560"/>
            <a:ext cx="76248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9"/>
          <p:cNvCxnSpPr/>
          <p:nvPr/>
        </p:nvCxnSpPr>
        <p:spPr>
          <a:xfrm flipV="1">
            <a:off x="2514240" y="4276080"/>
            <a:ext cx="6865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11"/>
          <p:cNvCxnSpPr/>
          <p:nvPr/>
        </p:nvCxnSpPr>
        <p:spPr>
          <a:xfrm>
            <a:off x="2666520" y="5181120"/>
            <a:ext cx="769320" cy="28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13"/>
          <p:cNvCxnSpPr/>
          <p:nvPr/>
        </p:nvCxnSpPr>
        <p:spPr>
          <a:xfrm flipV="1">
            <a:off x="7002000" y="4276080"/>
            <a:ext cx="6865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14"/>
          <p:cNvCxnSpPr/>
          <p:nvPr/>
        </p:nvCxnSpPr>
        <p:spPr>
          <a:xfrm flipV="1">
            <a:off x="6857640" y="5029200"/>
            <a:ext cx="6865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5"/>
          <p:cNvCxnSpPr/>
          <p:nvPr/>
        </p:nvCxnSpPr>
        <p:spPr>
          <a:xfrm flipH="1">
            <a:off x="5942880" y="365724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17"/>
          <p:cNvCxnSpPr/>
          <p:nvPr/>
        </p:nvCxnSpPr>
        <p:spPr>
          <a:xfrm flipH="1">
            <a:off x="5942880" y="4883040"/>
            <a:ext cx="686520" cy="7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16"/>
          <p:cNvSpPr/>
          <p:nvPr/>
        </p:nvSpPr>
        <p:spPr>
          <a:xfrm>
            <a:off x="237960" y="3495600"/>
            <a:ext cx="13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light blue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l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663480" y="4791240"/>
            <a:ext cx="13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light blue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2968200" y="4105440"/>
            <a:ext cx="88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red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l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2980440" y="54770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l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5436720" y="339408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7498080" y="400212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gre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5114160" y="468792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lack &amp; 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IV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:\Users\Faculty\AppData\Local\Temp\20141103_140819-1.jpg"/>
          <p:cNvPicPr/>
          <p:nvPr/>
        </p:nvPicPr>
        <p:blipFill>
          <a:blip r:embed="rId1"/>
          <a:stretch/>
        </p:blipFill>
        <p:spPr>
          <a:xfrm>
            <a:off x="4567320" y="76320"/>
            <a:ext cx="4195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5.4-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QUIZ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soccer vocabul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162-165 (text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 5.3-5.5 (work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cp:lastPrinted>2016-01-29T18:32:13Z</cp:lastPrinted>
  <dcterms:modified xsi:type="dcterms:W3CDTF">2016-02-02T21:05:06Z</dcterms:modified>
  <cp:revision>31</cp:revision>
  <dc:subject/>
  <dc:title>Me llamo____________  Clase 7 IL La fecha es el 4 de noviembre del 2010</dc:title>
</cp:coreProperties>
</file>